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345680" y="769680"/>
            <a:ext cx="4162680" cy="29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51960" y="4002120"/>
            <a:ext cx="555012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dt" idx="12"/>
          </p:nvPr>
        </p:nvSpPr>
        <p:spPr>
          <a:xfrm>
            <a:off x="3881160" y="0"/>
            <a:ext cx="29732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3"/>
          </p:nvPr>
        </p:nvSpPr>
        <p:spPr>
          <a:xfrm>
            <a:off x="-36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14"/>
          </p:nvPr>
        </p:nvSpPr>
        <p:spPr>
          <a:xfrm>
            <a:off x="388116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1388EA-9C4D-49F0-A250-A8CFDAF3D881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6"/>
          <p:cNvSpPr/>
          <p:nvPr/>
        </p:nvSpPr>
        <p:spPr>
          <a:xfrm>
            <a:off x="388152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8EE2B6-9A8D-4865-9495-73B30E7D71AC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812880" y="770040"/>
            <a:ext cx="5230800" cy="2943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5196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388152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3795C3-5A3A-4B70-A1DB-44D30F3A067B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812880" y="770040"/>
            <a:ext cx="5230800" cy="2943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5196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6"/>
          <p:cNvSpPr/>
          <p:nvPr/>
        </p:nvSpPr>
        <p:spPr>
          <a:xfrm>
            <a:off x="388152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97A47-A84C-40BE-BE03-B8567CA9153D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812880" y="770040"/>
            <a:ext cx="5230800" cy="2943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5196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6"/>
          <p:cNvSpPr/>
          <p:nvPr/>
        </p:nvSpPr>
        <p:spPr>
          <a:xfrm>
            <a:off x="388152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733928-18CC-4017-A41B-DF824F4AD2D9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812880" y="770040"/>
            <a:ext cx="5230800" cy="2943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5196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388152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8F7758-AADE-4BFE-BDE2-FBC0A54A0167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812880" y="770040"/>
            <a:ext cx="5230800" cy="2943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5196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388152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38086-A07B-4E37-9388-09B981BAE558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812880" y="770040"/>
            <a:ext cx="5230800" cy="2943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5196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6"/>
          <p:cNvSpPr/>
          <p:nvPr/>
        </p:nvSpPr>
        <p:spPr>
          <a:xfrm>
            <a:off x="388152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7DCC26-1860-44E4-BDB9-3BE82431D4F3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812880" y="770040"/>
            <a:ext cx="5230800" cy="2943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5196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6"/>
          <p:cNvSpPr/>
          <p:nvPr/>
        </p:nvSpPr>
        <p:spPr>
          <a:xfrm>
            <a:off x="388152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714C6-EF83-4635-B799-CB48664B3DEE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812880" y="770040"/>
            <a:ext cx="5230800" cy="2943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5196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388152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750E3-FF49-4B2A-A2EA-CADA27DE2B92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812880" y="770040"/>
            <a:ext cx="5230800" cy="2943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5196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6"/>
          <p:cNvSpPr/>
          <p:nvPr/>
        </p:nvSpPr>
        <p:spPr>
          <a:xfrm>
            <a:off x="388152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9AE699-9103-4551-8409-0C10424261B9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812880" y="770040"/>
            <a:ext cx="5230800" cy="2943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5196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6"/>
          <p:cNvSpPr/>
          <p:nvPr/>
        </p:nvSpPr>
        <p:spPr>
          <a:xfrm>
            <a:off x="388152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DD158F-7C58-436B-B856-844F5BAD0887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812880" y="770040"/>
            <a:ext cx="5230800" cy="2943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5196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EF404-2704-468B-B159-7ED73CAAA1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480" y="370908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6A7B3-44BF-4C7F-9076-9327F111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48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23232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41EEB-1C52-47A7-AF9C-FFD3C0DD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319640" y="1631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029800" y="1631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480" y="3709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4319640" y="3709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8029800" y="3709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80D23-7E69-4188-A8A5-8EB651CF0B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F7DC35-83B5-4AEC-B4E9-AA335878CC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480" y="1631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8975F5-5098-40C2-965D-AAA2ADD2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46DC8-00F5-4844-948B-66A90BDD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43CB7-216D-41B9-89C5-25D9C7C4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2E1B77-854D-4E1A-9D31-3AB7EA503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480" y="522360"/>
            <a:ext cx="87076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8CDA1F-1228-4594-B0BB-71B2763E7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27BEC0-5977-47C3-A61F-01E3C83C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480" y="1631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B846C-C7FC-4CA1-AEA5-268B5CCA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3232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3F2F9-F139-4E72-9FC5-CAE48BCF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480" y="370908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B6604F-3B38-4771-A977-92E39682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480" y="370908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98E48-6D47-4279-ACCB-96DBE574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48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23232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067DF-44FD-4819-9529-0A18F2D6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19640" y="1631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029800" y="1631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480" y="3709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4319640" y="3709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8029800" y="3709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D93199-A31D-4C7B-BFDA-067EA110B9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3F40-96E4-4376-A820-F94416B856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480" y="1631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6FDD-068D-44F2-9D05-CCA99CF4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9CC5-9C73-4EF4-A753-F2AA2F82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BBEA-3FA8-42F8-919C-0A3B8E09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DFC13-27B4-4EEC-938C-6FFAB7CD7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2D721-60BD-4C2C-9C8C-145E01EF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480" y="522360"/>
            <a:ext cx="87076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071CC-D939-45B4-9C92-DF018F3CB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48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B6E5-E7DC-493E-8ABC-6CEB7C2E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23232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1938-E81B-4AC8-B56B-9F9FBF98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480" y="370908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74EB-E509-4935-9010-C5903D82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480" y="370908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9D7E-0510-40D4-865B-9A94EF35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48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23232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2454-590A-4E52-8A6B-C508D29B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319640" y="1631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029800" y="1631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480" y="3709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4319640" y="3709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8029800" y="3709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39A9-1475-48EA-88C9-7580FEA635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740703-AFBA-4AD0-95BF-3BE6AA3A9A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480" y="1631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DBC9CF-355E-4722-83B1-7F413DB2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0C625D-B594-45F8-9A3E-5F82D52C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7B30A-6192-4C7F-97DC-C752824D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572800-D925-4017-84BD-734E7B6D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02A02D-4970-4BEB-A0B4-9AF0FED3D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480" y="522360"/>
            <a:ext cx="87076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F8ED6C-704D-4244-B811-F45222F10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48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898EB4-DFEA-4D37-A33B-493F51CA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23232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A590B5-7229-42AD-AA0C-704CCA3D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70908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28A32C-948E-4C40-BFBF-998B78CE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480" y="370908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9189A4-8B31-474D-9EEF-B9A905BA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48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23232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B9DDA4-E7E2-4EC4-AB0B-4A152694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319640" y="1631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029800" y="1631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480" y="3709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4319640" y="3709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8029800" y="3709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F36DA7-1519-4ACC-9F77-10129111A3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F96F42-A13A-4649-9765-E0B8C808A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BFFBF-63BC-4FD7-A1B7-34C4F0850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09480" y="1631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F82C1E-72DC-4A42-AC3D-DCAB5843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4BF3B7-6F22-42DB-AAD2-E461D514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60A67F-2C5B-4A02-86FB-A7A3E6D0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5D7C4C-67F6-4300-BB22-B765E51C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609480" y="522360"/>
            <a:ext cx="87076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E6B1A2-0EA0-4440-9FEF-5AEC7EC0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40C387-C183-44AA-A334-F817958B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3232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D154D0-AD18-4E1F-ACCA-63F09413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9480" y="370908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06BD69-99BB-4403-A84F-A9FD5776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09480" y="370908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A16FD0-2124-487E-BE42-3849D8A6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948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623232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3827F0-7E95-4FEF-913F-E5F7C8FAE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480" y="522360"/>
            <a:ext cx="87076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0AC38-93E8-4D1B-8B45-720C1CCDF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319640" y="1631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8029800" y="1631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09480" y="3709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4319640" y="3709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8029800" y="3709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6E767B-0EF2-4D3D-AF55-FE5CDA14E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D2D97-7652-420B-A967-C2EA223B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3232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CBE33-00C6-41C9-9A31-1759093C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70908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88B0F-EAEA-4232-9D71-F1EA1050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-7920"/>
            <a:ext cx="12190320" cy="6864480"/>
            <a:chOff x="0" y="-7920"/>
            <a:chExt cx="12190320" cy="6864480"/>
          </a:xfrm>
        </p:grpSpPr>
        <p:sp>
          <p:nvSpPr>
            <p:cNvPr id="1" name="Line 2"/>
            <p:cNvSpPr/>
            <p:nvPr/>
          </p:nvSpPr>
          <p:spPr>
            <a:xfrm>
              <a:off x="9371160" y="0"/>
              <a:ext cx="1217520" cy="685656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" name="Line 3"/>
            <p:cNvSpPr/>
            <p:nvPr/>
          </p:nvSpPr>
          <p:spPr>
            <a:xfrm flipH="1">
              <a:off x="7423200" y="3681360"/>
              <a:ext cx="4765680" cy="31752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9182160" y="-7920"/>
              <a:ext cx="3004920" cy="686448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9604440" y="-7920"/>
              <a:ext cx="2585880" cy="686448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" name="AutoShape 6"/>
            <p:cNvSpPr/>
            <p:nvPr/>
          </p:nvSpPr>
          <p:spPr>
            <a:xfrm>
              <a:off x="8933040" y="3048120"/>
              <a:ext cx="3257280" cy="380844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9334440" y="-7920"/>
              <a:ext cx="2852640" cy="686448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10899720" y="-7920"/>
              <a:ext cx="1289160" cy="686448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10939320" y="-7920"/>
              <a:ext cx="1247760" cy="686448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" name="AutoShape 10"/>
            <p:cNvSpPr/>
            <p:nvPr/>
          </p:nvSpPr>
          <p:spPr>
            <a:xfrm>
              <a:off x="10372680" y="3591000"/>
              <a:ext cx="1816200" cy="326556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" name="AutoShape 11"/>
            <p:cNvSpPr/>
            <p:nvPr/>
          </p:nvSpPr>
          <p:spPr>
            <a:xfrm>
              <a:off x="0" y="4013280"/>
              <a:ext cx="447840" cy="284328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859464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880" y="2160360"/>
            <a:ext cx="859464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880"/>
            <a:ext cx="909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Text Box 15"/>
          <p:cNvSpPr/>
          <p:nvPr/>
        </p:nvSpPr>
        <p:spPr>
          <a:xfrm>
            <a:off x="677880" y="6041880"/>
            <a:ext cx="6297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sldNum" idx="2"/>
          </p:nvPr>
        </p:nvSpPr>
        <p:spPr>
          <a:xfrm>
            <a:off x="8589960" y="6041880"/>
            <a:ext cx="6825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l-PL" sz="900" spc="-1" strike="noStrike">
                <a:solidFill>
                  <a:srgbClr val="898989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18A0620-4CB1-46D6-BEB4-1B40B452EA76}" type="slidenum">
              <a:rPr b="0" lang="pl-PL" sz="900" spc="-1" strike="noStrike">
                <a:solidFill>
                  <a:srgbClr val="898989"/>
                </a:solidFill>
                <a:latin typeface="Times New Roman"/>
                <a:ea typeface="Segoe U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"/>
          <p:cNvGrpSpPr/>
          <p:nvPr/>
        </p:nvGrpSpPr>
        <p:grpSpPr>
          <a:xfrm>
            <a:off x="0" y="-7920"/>
            <a:ext cx="12189960" cy="6864480"/>
            <a:chOff x="0" y="-7920"/>
            <a:chExt cx="12189960" cy="6864480"/>
          </a:xfrm>
        </p:grpSpPr>
        <p:sp>
          <p:nvSpPr>
            <p:cNvPr id="53" name="Line 2"/>
            <p:cNvSpPr/>
            <p:nvPr/>
          </p:nvSpPr>
          <p:spPr>
            <a:xfrm>
              <a:off x="9370800" y="0"/>
              <a:ext cx="1217520" cy="685656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4" name="Line 3"/>
            <p:cNvSpPr/>
            <p:nvPr/>
          </p:nvSpPr>
          <p:spPr>
            <a:xfrm flipH="1">
              <a:off x="7422120" y="3681360"/>
              <a:ext cx="4766040" cy="31752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5" name="Freeform 4"/>
            <p:cNvSpPr/>
            <p:nvPr/>
          </p:nvSpPr>
          <p:spPr>
            <a:xfrm>
              <a:off x="9181800" y="-7920"/>
              <a:ext cx="3004920" cy="686448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6" name="Freeform 5"/>
            <p:cNvSpPr/>
            <p:nvPr/>
          </p:nvSpPr>
          <p:spPr>
            <a:xfrm>
              <a:off x="9604080" y="-7920"/>
              <a:ext cx="2585880" cy="686448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7" name="AutoShape 6"/>
            <p:cNvSpPr/>
            <p:nvPr/>
          </p:nvSpPr>
          <p:spPr>
            <a:xfrm>
              <a:off x="8932320" y="3048120"/>
              <a:ext cx="3257640" cy="380844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8" name="Freeform 7"/>
            <p:cNvSpPr/>
            <p:nvPr/>
          </p:nvSpPr>
          <p:spPr>
            <a:xfrm>
              <a:off x="9334080" y="-7920"/>
              <a:ext cx="2852640" cy="686448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9" name="Freeform 8"/>
            <p:cNvSpPr/>
            <p:nvPr/>
          </p:nvSpPr>
          <p:spPr>
            <a:xfrm>
              <a:off x="10899360" y="-7920"/>
              <a:ext cx="1289160" cy="686448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0" name="Freeform 9"/>
            <p:cNvSpPr/>
            <p:nvPr/>
          </p:nvSpPr>
          <p:spPr>
            <a:xfrm>
              <a:off x="10938960" y="-7920"/>
              <a:ext cx="1247760" cy="686448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1" name="AutoShape 10"/>
            <p:cNvSpPr/>
            <p:nvPr/>
          </p:nvSpPr>
          <p:spPr>
            <a:xfrm>
              <a:off x="10372320" y="3591000"/>
              <a:ext cx="1816200" cy="326556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2" name="AutoShape 11"/>
            <p:cNvSpPr/>
            <p:nvPr/>
          </p:nvSpPr>
          <p:spPr>
            <a:xfrm rot="10800000">
              <a:off x="0" y="1440"/>
              <a:ext cx="841680" cy="56642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859464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880" y="2160360"/>
            <a:ext cx="859464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3"/>
          </p:nvPr>
        </p:nvSpPr>
        <p:spPr>
          <a:xfrm>
            <a:off x="7205400" y="6041880"/>
            <a:ext cx="909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677880" y="6041880"/>
            <a:ext cx="6297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8589960" y="6041880"/>
            <a:ext cx="6825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pl-PL" sz="900" spc="-1" strike="noStrike">
                <a:solidFill>
                  <a:srgbClr val="90c226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E0BBB68-9709-4425-ACD6-151E0EA49A67}" type="slidenum">
              <a:rPr b="0" lang="pl-PL" sz="900" spc="-1" strike="noStrike">
                <a:solidFill>
                  <a:srgbClr val="90c226"/>
                </a:solidFill>
                <a:latin typeface="Times New Roman"/>
                <a:ea typeface="Segoe U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"/>
          <p:cNvGrpSpPr/>
          <p:nvPr/>
        </p:nvGrpSpPr>
        <p:grpSpPr>
          <a:xfrm>
            <a:off x="0" y="-7920"/>
            <a:ext cx="12190320" cy="6864480"/>
            <a:chOff x="0" y="-7920"/>
            <a:chExt cx="12190320" cy="6864480"/>
          </a:xfrm>
        </p:grpSpPr>
        <p:sp>
          <p:nvSpPr>
            <p:cNvPr id="105" name="Line 2"/>
            <p:cNvSpPr/>
            <p:nvPr/>
          </p:nvSpPr>
          <p:spPr>
            <a:xfrm>
              <a:off x="9371160" y="0"/>
              <a:ext cx="1217520" cy="685656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6" name="Line 3"/>
            <p:cNvSpPr/>
            <p:nvPr/>
          </p:nvSpPr>
          <p:spPr>
            <a:xfrm flipH="1">
              <a:off x="7423200" y="3681360"/>
              <a:ext cx="4765680" cy="31752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7" name="Freeform 4"/>
            <p:cNvSpPr/>
            <p:nvPr/>
          </p:nvSpPr>
          <p:spPr>
            <a:xfrm>
              <a:off x="9182160" y="-7920"/>
              <a:ext cx="3004920" cy="686448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8" name="Freeform 5"/>
            <p:cNvSpPr/>
            <p:nvPr/>
          </p:nvSpPr>
          <p:spPr>
            <a:xfrm>
              <a:off x="9604440" y="-7920"/>
              <a:ext cx="2585880" cy="686448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8933040" y="3048120"/>
              <a:ext cx="3257280" cy="380844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0" name="Freeform 7"/>
            <p:cNvSpPr/>
            <p:nvPr/>
          </p:nvSpPr>
          <p:spPr>
            <a:xfrm>
              <a:off x="9334440" y="-7920"/>
              <a:ext cx="2852640" cy="686448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1" name="Freeform 8"/>
            <p:cNvSpPr/>
            <p:nvPr/>
          </p:nvSpPr>
          <p:spPr>
            <a:xfrm>
              <a:off x="10899720" y="-7920"/>
              <a:ext cx="1289160" cy="686448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2" name="Freeform 9"/>
            <p:cNvSpPr/>
            <p:nvPr/>
          </p:nvSpPr>
          <p:spPr>
            <a:xfrm>
              <a:off x="10939320" y="-7920"/>
              <a:ext cx="1247760" cy="686448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3" name="AutoShape 10"/>
            <p:cNvSpPr/>
            <p:nvPr/>
          </p:nvSpPr>
          <p:spPr>
            <a:xfrm>
              <a:off x="10372680" y="3591000"/>
              <a:ext cx="1816200" cy="326556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4" name="AutoShape 11"/>
            <p:cNvSpPr/>
            <p:nvPr/>
          </p:nvSpPr>
          <p:spPr>
            <a:xfrm>
              <a:off x="0" y="4013280"/>
              <a:ext cx="447840" cy="284328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15" name="Text Box 12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859464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880" y="2160360"/>
            <a:ext cx="859464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5"/>
          </p:nvPr>
        </p:nvSpPr>
        <p:spPr>
          <a:xfrm>
            <a:off x="7205400" y="6041880"/>
            <a:ext cx="909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677880" y="6041880"/>
            <a:ext cx="6297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sldNum" idx="6"/>
          </p:nvPr>
        </p:nvSpPr>
        <p:spPr>
          <a:xfrm>
            <a:off x="8589960" y="6041880"/>
            <a:ext cx="6825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pl-PL" sz="900" spc="-1" strike="noStrike">
                <a:solidFill>
                  <a:srgbClr val="90c226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3659714-57F8-4616-87D1-19213ADE2D4C}" type="slidenum">
              <a:rPr b="0" lang="pl-PL" sz="900" spc="-1" strike="noStrike">
                <a:solidFill>
                  <a:srgbClr val="90c226"/>
                </a:solidFill>
                <a:latin typeface="Times New Roman"/>
                <a:ea typeface="Segoe U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"/>
          <p:cNvGrpSpPr/>
          <p:nvPr/>
        </p:nvGrpSpPr>
        <p:grpSpPr>
          <a:xfrm>
            <a:off x="0" y="-7920"/>
            <a:ext cx="12190320" cy="6864480"/>
            <a:chOff x="0" y="-7920"/>
            <a:chExt cx="12190320" cy="6864480"/>
          </a:xfrm>
        </p:grpSpPr>
        <p:sp>
          <p:nvSpPr>
            <p:cNvPr id="159" name="Line 2"/>
            <p:cNvSpPr/>
            <p:nvPr/>
          </p:nvSpPr>
          <p:spPr>
            <a:xfrm>
              <a:off x="9371160" y="0"/>
              <a:ext cx="1217520" cy="685656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60" name="Line 3"/>
            <p:cNvSpPr/>
            <p:nvPr/>
          </p:nvSpPr>
          <p:spPr>
            <a:xfrm flipH="1">
              <a:off x="7423200" y="3681360"/>
              <a:ext cx="4765680" cy="31752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61" name="Freeform 4"/>
            <p:cNvSpPr/>
            <p:nvPr/>
          </p:nvSpPr>
          <p:spPr>
            <a:xfrm>
              <a:off x="9182160" y="-7920"/>
              <a:ext cx="3004920" cy="686448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62" name="Freeform 5"/>
            <p:cNvSpPr/>
            <p:nvPr/>
          </p:nvSpPr>
          <p:spPr>
            <a:xfrm>
              <a:off x="9604440" y="-7920"/>
              <a:ext cx="2585880" cy="686448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63" name="AutoShape 6"/>
            <p:cNvSpPr/>
            <p:nvPr/>
          </p:nvSpPr>
          <p:spPr>
            <a:xfrm>
              <a:off x="8933040" y="3048120"/>
              <a:ext cx="3257280" cy="380844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64" name="Freeform 7"/>
            <p:cNvSpPr/>
            <p:nvPr/>
          </p:nvSpPr>
          <p:spPr>
            <a:xfrm>
              <a:off x="9334440" y="-7920"/>
              <a:ext cx="2852640" cy="686448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65" name="Freeform 8"/>
            <p:cNvSpPr/>
            <p:nvPr/>
          </p:nvSpPr>
          <p:spPr>
            <a:xfrm>
              <a:off x="10899720" y="-7920"/>
              <a:ext cx="1289160" cy="686448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66" name="Freeform 9"/>
            <p:cNvSpPr/>
            <p:nvPr/>
          </p:nvSpPr>
          <p:spPr>
            <a:xfrm>
              <a:off x="10939320" y="-7920"/>
              <a:ext cx="1247760" cy="686448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67" name="AutoShape 10"/>
            <p:cNvSpPr/>
            <p:nvPr/>
          </p:nvSpPr>
          <p:spPr>
            <a:xfrm>
              <a:off x="10372680" y="3591000"/>
              <a:ext cx="1816200" cy="326556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68" name="AutoShape 11"/>
            <p:cNvSpPr/>
            <p:nvPr/>
          </p:nvSpPr>
          <p:spPr>
            <a:xfrm>
              <a:off x="0" y="4013280"/>
              <a:ext cx="447840" cy="284328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69" name="Text Box 12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859464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880" y="2160360"/>
            <a:ext cx="859464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7"/>
          </p:nvPr>
        </p:nvSpPr>
        <p:spPr>
          <a:xfrm>
            <a:off x="7205400" y="6041880"/>
            <a:ext cx="909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Text Box 17"/>
          <p:cNvSpPr/>
          <p:nvPr/>
        </p:nvSpPr>
        <p:spPr>
          <a:xfrm>
            <a:off x="677880" y="6041880"/>
            <a:ext cx="6297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8"/>
          </p:nvPr>
        </p:nvSpPr>
        <p:spPr>
          <a:xfrm>
            <a:off x="8589960" y="6041880"/>
            <a:ext cx="6825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pl-PL" sz="900" spc="-1" strike="noStrike">
                <a:solidFill>
                  <a:srgbClr val="90c226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31D7D21-51D2-441A-A5D5-20B46703109D}" type="slidenum">
              <a:rPr b="0" lang="pl-PL" sz="900" spc="-1" strike="noStrike">
                <a:solidFill>
                  <a:srgbClr val="90c226"/>
                </a:solidFill>
                <a:latin typeface="Times New Roman"/>
                <a:ea typeface="Segoe U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219356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09480" y="1631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9"/>
          </p:nvPr>
        </p:nvSpPr>
        <p:spPr>
          <a:xfrm>
            <a:off x="609120" y="6246720"/>
            <a:ext cx="283860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0"/>
          </p:nvPr>
        </p:nvSpPr>
        <p:spPr>
          <a:xfrm>
            <a:off x="4170240" y="6246720"/>
            <a:ext cx="3864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1"/>
          </p:nvPr>
        </p:nvSpPr>
        <p:spPr>
          <a:xfrm>
            <a:off x="8741880" y="6246720"/>
            <a:ext cx="283860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389DC1-8B96-45DC-B3BA-D2D221116805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www.erc.edu/" TargetMode="External"/><Relationship Id="rId2" Type="http://schemas.openxmlformats.org/officeDocument/2006/relationships/hyperlink" Target="http://www.prc.krakow.pl/" TargetMode="External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1"/>
          <p:cNvSpPr/>
          <p:nvPr/>
        </p:nvSpPr>
        <p:spPr>
          <a:xfrm>
            <a:off x="1506600" y="2405160"/>
            <a:ext cx="77677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900"/>
            </a:br>
            <a:r>
              <a:rPr b="0" lang="pl-PL" sz="4900" spc="-1" strike="noStrike">
                <a:solidFill>
                  <a:srgbClr val="90c226"/>
                </a:solidFill>
                <a:latin typeface="Arial"/>
                <a:ea typeface="WenQuanYi Zen Hei"/>
              </a:rPr>
              <a:t>Algorytm postępowania na miejscu wypadku</a:t>
            </a:r>
            <a:endParaRPr b="0" lang="en-US" sz="4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1506600" y="4095720"/>
            <a:ext cx="776772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1"/>
          <p:cNvSpPr/>
          <p:nvPr/>
        </p:nvSpPr>
        <p:spPr>
          <a:xfrm>
            <a:off x="677880" y="609480"/>
            <a:ext cx="85964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WenQuanYi Zen Hei"/>
              </a:rPr>
              <a:t>Bibliografia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WenQuanYi Zen Hei"/>
              </a:rPr>
              <a:t> </a:t>
            </a:r>
            <a:br>
              <a:rPr sz="3200"/>
            </a:b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WenQuanYi Zen Hei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677880" y="2160720"/>
            <a:ext cx="859644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31640" indent="-323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 u="sng">
                <a:solidFill>
                  <a:srgbClr val="ccccff"/>
                </a:solidFill>
                <a:uFillTx/>
                <a:latin typeface="Arial"/>
                <a:ea typeface="WenQuanYi Zen Hei"/>
                <a:hlinkClick r:id="rId1"/>
              </a:rPr>
              <a:t>www.erc.edu/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31640" indent="-323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 u="sng">
                <a:solidFill>
                  <a:srgbClr val="ccccff"/>
                </a:solidFill>
                <a:uFillTx/>
                <a:latin typeface="Arial"/>
                <a:ea typeface="WenQuanYi Zen Hei"/>
                <a:hlinkClick r:id="rId2"/>
              </a:rPr>
              <a:t>www.prc.krakow.p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31640" indent="-323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J. Słoma, G. Zając,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Edukacja dla bezpieczeństwa. Żyję i działam bezpiecznie. Podrecznik z ćwiczeniami dla klas 1-3 gimnazjum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. Nowa Era, Warszawa 2009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31640" indent="-323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M. Goniewicz, A.W. Nowa-Kowal, Z. Smutek,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Edukacja dla bezpieczeństwa.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1"/>
          <p:cNvSpPr/>
          <p:nvPr/>
        </p:nvSpPr>
        <p:spPr>
          <a:xfrm>
            <a:off x="677880" y="609480"/>
            <a:ext cx="85964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WenQuanYi Zen Hei"/>
              </a:rPr>
              <a:t>Podsumowani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677880" y="2160720"/>
            <a:ext cx="859644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1"/>
          <p:cNvSpPr/>
          <p:nvPr/>
        </p:nvSpPr>
        <p:spPr>
          <a:xfrm>
            <a:off x="677880" y="609480"/>
            <a:ext cx="85964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  <a:ea typeface="WenQuanYi Zen Hei"/>
              </a:rPr>
              <a:t>Struktura prezentacji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WenQuanYi Zen Hei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677880" y="2160720"/>
            <a:ext cx="859644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zasady udzielania pierwszej pomocy,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31640" indent="-323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charakterystyka łańcucha przeżycia,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31640" indent="-323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numery alarmowe,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31640" indent="-323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algorytm postępowania na miejscu wypadku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1" descr=""/>
          <p:cNvPicPr/>
          <p:nvPr/>
        </p:nvPicPr>
        <p:blipFill>
          <a:blip r:embed="rId1"/>
          <a:srcRect l="0" t="6466" r="0" b="9557"/>
          <a:stretch/>
        </p:blipFill>
        <p:spPr>
          <a:xfrm>
            <a:off x="2160720" y="1511280"/>
            <a:ext cx="7143480" cy="419724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2"/>
          <p:cNvSpPr/>
          <p:nvPr/>
        </p:nvSpPr>
        <p:spPr>
          <a:xfrm>
            <a:off x="677880" y="609480"/>
            <a:ext cx="85964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  <a:ea typeface="WenQuanYi Zen Hei"/>
              </a:rPr>
              <a:t>Zasady udzielania pierwszej pomocy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2435400" y="591192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  <a:ea typeface="WenQuanYi Zen Hei"/>
              </a:rPr>
              <a:t>Złota godzina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6184800" y="59119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  <a:ea typeface="WenQuanYi Zen Hei"/>
              </a:rPr>
              <a:t>Platynowe minuty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1"/>
          <p:cNvSpPr/>
          <p:nvPr/>
        </p:nvSpPr>
        <p:spPr>
          <a:xfrm>
            <a:off x="677880" y="609480"/>
            <a:ext cx="85964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WenQuanYi Zen Hei"/>
              </a:rPr>
              <a:t>Złota godzina </a:t>
            </a:r>
            <a:br>
              <a:rPr sz="3200"/>
            </a:b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WenQuanYi Zen Hei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0" name="Text Box 2"/>
          <p:cNvSpPr/>
          <p:nvPr/>
        </p:nvSpPr>
        <p:spPr>
          <a:xfrm>
            <a:off x="677880" y="2160720"/>
            <a:ext cx="859644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60 minut, w trakcie których poszkodowany powinien się znaleźć w szpitalu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1"/>
          <a:stretch/>
        </p:blipFill>
        <p:spPr>
          <a:xfrm>
            <a:off x="3232080" y="3108240"/>
            <a:ext cx="4753080" cy="31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1"/>
          <p:cNvSpPr/>
          <p:nvPr/>
        </p:nvSpPr>
        <p:spPr>
          <a:xfrm>
            <a:off x="677880" y="609480"/>
            <a:ext cx="85964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WenQuanYi Zen Hei"/>
              </a:rPr>
              <a:t>Platynowe minuty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677880" y="2160720"/>
            <a:ext cx="859644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pierwszych 5 minut, w czasie których należy podjąć zabiegi resuscytacyjne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74" name="Picture 3" descr=""/>
          <p:cNvPicPr/>
          <p:nvPr/>
        </p:nvPicPr>
        <p:blipFill>
          <a:blip r:embed="rId1"/>
          <a:stretch/>
        </p:blipFill>
        <p:spPr>
          <a:xfrm>
            <a:off x="3311640" y="3195720"/>
            <a:ext cx="47718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677880" y="609480"/>
            <a:ext cx="85964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WenQuanYi Zen Hei"/>
              </a:rPr>
              <a:t>Charakterystyka łańcucha przeżycia </a:t>
            </a:r>
            <a:br>
              <a:rPr sz="3200"/>
            </a:b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WenQuanYi Zen Hei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1279440" y="1671480"/>
            <a:ext cx="8474040" cy="38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1"/>
          <p:cNvSpPr/>
          <p:nvPr/>
        </p:nvSpPr>
        <p:spPr>
          <a:xfrm>
            <a:off x="677880" y="609480"/>
            <a:ext cx="85964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WenQuanYi Zen Hei"/>
              </a:rPr>
              <a:t>Numery alarmowe </a:t>
            </a:r>
            <a:br>
              <a:rPr sz="3200"/>
            </a:b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WenQuanYi Zen Hei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677880" y="1249200"/>
            <a:ext cx="3727440" cy="24940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"/>
          <p:cNvPicPr/>
          <p:nvPr/>
        </p:nvPicPr>
        <p:blipFill>
          <a:blip r:embed="rId2"/>
          <a:stretch/>
        </p:blipFill>
        <p:spPr>
          <a:xfrm>
            <a:off x="7746840" y="1249200"/>
            <a:ext cx="3729240" cy="24940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"/>
          <p:cNvPicPr/>
          <p:nvPr/>
        </p:nvPicPr>
        <p:blipFill>
          <a:blip r:embed="rId3"/>
          <a:stretch/>
        </p:blipFill>
        <p:spPr>
          <a:xfrm>
            <a:off x="4405320" y="1252440"/>
            <a:ext cx="3341520" cy="249084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5"/>
          <p:cNvSpPr/>
          <p:nvPr/>
        </p:nvSpPr>
        <p:spPr>
          <a:xfrm>
            <a:off x="676440" y="3762360"/>
            <a:ext cx="33289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  <a:ea typeface="WenQuanYi Zen Hei"/>
              </a:rPr>
              <a:t>999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pogotowie ratunkowe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4405320" y="3760920"/>
            <a:ext cx="33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rebuchet MS"/>
                <a:ea typeface="WenQuanYi Zen Hei"/>
              </a:rPr>
              <a:t>998 </a:t>
            </a:r>
            <a:r>
              <a:rPr b="0" lang="pl-PL" sz="1600" spc="-1" strike="noStrike">
                <a:solidFill>
                  <a:srgbClr val="000000"/>
                </a:solidFill>
                <a:latin typeface="Trebuchet MS"/>
                <a:ea typeface="WenQuanYi Zen Hei"/>
              </a:rPr>
              <a:t>straż pożarna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7746840" y="3760920"/>
            <a:ext cx="37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rebuchet MS"/>
                <a:ea typeface="WenQuanYi Zen Hei"/>
              </a:rPr>
              <a:t>997 </a:t>
            </a:r>
            <a:r>
              <a:rPr b="0" lang="pl-PL" sz="1600" spc="-1" strike="noStrike">
                <a:solidFill>
                  <a:srgbClr val="000000"/>
                </a:solidFill>
                <a:latin typeface="Trebuchet MS"/>
                <a:ea typeface="WenQuanYi Zen Hei"/>
              </a:rPr>
              <a:t>policja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1697040" y="5178600"/>
            <a:ext cx="4616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Trebuchet MS"/>
                <a:ea typeface="WenQuanYi Zen Hei"/>
              </a:rPr>
              <a:t>112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ff0000"/>
                </a:solidFill>
                <a:latin typeface="Trebuchet MS"/>
                <a:ea typeface="WenQuanYi Zen Hei"/>
              </a:rPr>
              <a:t>Centrum Powiadamiania Ratunkowego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85" name="Picture 9" descr=""/>
          <p:cNvPicPr/>
          <p:nvPr/>
        </p:nvPicPr>
        <p:blipFill>
          <a:blip r:embed="rId4"/>
          <a:stretch/>
        </p:blipFill>
        <p:spPr>
          <a:xfrm>
            <a:off x="6931080" y="4330800"/>
            <a:ext cx="3765600" cy="251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1"/>
          <p:cNvSpPr/>
          <p:nvPr/>
        </p:nvSpPr>
        <p:spPr>
          <a:xfrm>
            <a:off x="677880" y="609480"/>
            <a:ext cx="85964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WenQuanYi Zen Hei"/>
              </a:rPr>
              <a:t>Algorytm postępowania na miejscu wypadku </a:t>
            </a:r>
            <a:br>
              <a:rPr sz="3200"/>
            </a:b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WenQuanYi Zen Hei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479520" y="1773360"/>
            <a:ext cx="936144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Ocena sytuacji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31640" indent="-323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Ocena bezpieczeństwa ratownika, poszkodowanego i świadków wypadku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31640" indent="-323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Pierwsza pomoc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31640" indent="-323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Dalsza opieka nad poszkodowanym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31640" indent="-323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Przekazanie informacji o poszkodowanym 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31640" indent="-323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31640" indent="-323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6765840" y="2924280"/>
            <a:ext cx="5016600" cy="334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"/>
          <p:cNvSpPr/>
          <p:nvPr/>
        </p:nvSpPr>
        <p:spPr>
          <a:xfrm>
            <a:off x="677880" y="609480"/>
            <a:ext cx="85964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WenQuanYi Zen Hei"/>
              </a:rPr>
              <a:t>Pytania do prezentacji </a:t>
            </a:r>
            <a:br>
              <a:rPr sz="3200"/>
            </a:b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WenQuanYi Zen Hei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677880" y="2160720"/>
            <a:ext cx="859644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3:47:12Z</dcterms:created>
  <dc:creator>Andrzej Iskrzycki</dc:creator>
  <dc:description/>
  <dc:language>en-US</dc:language>
  <cp:lastModifiedBy>Andrzej Iskrzycki</cp:lastModifiedBy>
  <dcterms:modified xsi:type="dcterms:W3CDTF">2013-08-18T16:59:00Z</dcterms:modified>
  <cp:revision>9</cp:revision>
  <dc:subject/>
  <dc:title> Algorytm postępowania na miejscu wypadku</dc:title>
</cp:coreProperties>
</file>